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27C5-FF88-42D3-A9E5-9C01CD20F26B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3023-2EF5-46D9-AA1D-0DA796CC2C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Arial"/>
              </a:rPr>
              <a:t>http://www.mines.gouv.m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F62B-4031-47CF-A3B3-BA37AC7812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Comp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6AAE-7AB8-491D-9BC7-285831DF42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veral models exist to estimate the AETR of a given mining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ARI (Fiscal Analysis of Resources Indsutries), IMF: http://www.imf.org/external/np/fad/fari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TGI (Natural Resource Governance Institute): http://www.resourcegovernance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0807-D855-46A5-892A-C80AB7963E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Mali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SSISTANCE REPORT—MINING AND PETROLEUM TAXATION (DIAGNOSTIC ASSESSMENT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ttps://www.imf.org/external/pubs/ft/scr/2015/cr1534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BFEF-E399-448D-9972-9D26E8E1F0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Mali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SSISTANCE REPORT—MINING AND PETROLEUM TAXATION (DIAGNOSTIC ASSESSMENT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ttps://www.imf.org/external/pubs/ft/scr/2015/cr1534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BEA3-79DC-4B08-BBB6-3FAB85DFBD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is chapter focuses on the mining industry. Artisanal mining raises particular issues, which are beyond the scope of this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 the upstream Oil sector (production), Production Sharing Arrangements apply and remain largely undis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achs, Jeffrey and Warner, Andrew (1995). "Natural Resource Abundance and Economic Growth". NBER Working Paper (5398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rey Sachs and Andrew Warner established a strong correlation between natural resource abundance and poor economic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0B3F-C7F5-4B97-936C-B2978E0BFC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IMF (20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869C-775F-483A-BFB2-AB45EB31D2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D7E-4025-498E-B481-FF530572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D19-E9C4-4DEB-A05C-074EA74D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96A-09CF-408C-B811-71F9D2AE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1C14-90CE-4235-BF91-E4133052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9031-1D3C-43C1-8389-CCB208C6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B923-F86E-4B27-82E6-10C20243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13CA-1C90-4A27-AE13-1022B0D7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4B9E-00D4-4A26-9D2A-2094D6D1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0643-1DCF-409F-A50E-BBAB7981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6F8E-23FF-4E1E-BF11-6A05074D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6E9E-085C-479A-B257-59B25D5C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A7D-7245-47FA-9A94-7334A43D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6F33-48B2-423A-9338-B1DC0A0C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5763-3DB2-4D82-97DE-B56F3B57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0A4C-0FD2-4B79-A7A4-8B5D565C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4E75-BCA6-4B80-8598-E0BCDD56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C273-43F9-471A-8453-18D746AD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D891-7195-466B-B364-52ED00DA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856-35B3-4574-952E-6E3AFA6D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BF1-35B6-4894-821C-98D277A0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894-F943-4432-8850-7292291D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66C-6B9B-49E9-B0EF-F4D1F0E4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B67-7973-4933-9145-0B6E2997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F56-B1A8-47D8-9783-EC4A64C9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 Gallagher, Ph.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FD0A-DF6E-4828-A8B4-D3542F71BF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648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6480">
            <a:solidFill>
              <a:srgbClr val="133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6480">
            <a:solidFill>
              <a:srgbClr val="133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Mark Gallagher, Ph.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97EE-36FB-42BF-89AA-9F8BCE96BB1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95280" y="2565360"/>
            <a:ext cx="504036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d624"/>
                </a:solidFill>
                <a:latin typeface="Verdana"/>
              </a:rPr>
              <a:t>Mining taxation</a:t>
            </a:r>
            <a:br>
              <a:rPr sz="2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Module  7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TextBox 3"/>
          <p:cNvSpPr/>
          <p:nvPr/>
        </p:nvSpPr>
        <p:spPr>
          <a:xfrm flipH="1">
            <a:off x="3708360" y="427032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omestic Revenue Mobilis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aining funded by the European Un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ainer: Grégoire Rota-Graziosi, CERDI-CNRS, Université Clermont Auvergne.</a:t>
            </a:r>
            <a:r>
              <a:rPr b="0" i="1" lang="en-US" sz="1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Transparenc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400" y="1844280"/>
            <a:ext cx="81532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Necessary (not sufficient) condition for any optimal tax regime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tractive Industries Transparency Initiative (World Bank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ptembrer 2014 : 29 countries are conform, 17 candidate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Particular tax agreements ususally undisclos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May differ significantly from the Mining Code and National Tax Law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Some exceptions: for instance, Mali since 2014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Transparency is a tool to discriminate among MNEs.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All developed countries do not have the same diclosure constraints for their listed companie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Transparency : a tool to protect shareholders in rich countries may allow the protection of tax base in developing countrie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implicit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060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Advantag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Improving transparenc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Reducing compliance cost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Ring fencing principl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imiting a oil or mining company to only one extraction licence =&gt; One enterprise per mining site.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Applying a strict definition of mining sub-contractor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tabilit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Irreversible investissement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=&gt; The stability of tax regime is necessary for the mining firms.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f5494"/>
                </a:solidFill>
                <a:latin typeface="Verdana"/>
              </a:rPr>
              <a:t>Avoiding the risk of expropriation through tax conditions adjustment.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Stability claus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f5494"/>
                </a:solidFill>
                <a:latin typeface="Verdana"/>
              </a:rPr>
              <a:t>Freeze the modality of mining rent sharing.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f5494"/>
                </a:solidFill>
                <a:latin typeface="Verdana"/>
              </a:rPr>
              <a:t>Several form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f5494"/>
                </a:solidFill>
                <a:latin typeface="Verdana"/>
              </a:rPr>
              <a:t>Freeze the sharing by fixing tax rates for the lifetime of the mine.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f5494"/>
                </a:solidFill>
                <a:latin typeface="Verdana"/>
              </a:rPr>
              <a:t>Mutually accepted renegociation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f5494"/>
                </a:solidFill>
                <a:latin typeface="Verdana"/>
              </a:rPr>
              <a:t>Very long period (20 to 50 years)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Progressivit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22762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A mining tax regime is progressive if the mining rent share for the government increases automatically with the profitability of the mining project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Sharing the rent =&gt; sharing the risk to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Tax instruments: Tax Co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Corporate Income Tax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educed rate or increased ra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Exemp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Capital depreciation ru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Tax in capital income (dividends, interest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DTA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OECD vs UN mod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Capital Gain Tax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Indirect transfer of mining site through tax have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Exploration =&gt; Specul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f5494"/>
                </a:solidFill>
                <a:latin typeface="Verdana"/>
              </a:rPr>
              <a:t>Tax reduced the risk of speculation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f5494"/>
                </a:solidFill>
                <a:latin typeface="Verdana"/>
              </a:rPr>
              <a:t>Tax Instruments: Specific tax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964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Land tax, registration fe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Nominal amou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Formalizing property righ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Ad valorem royal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Unitary rate or progressive rate (based on the commodity pric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Tax based on tunrover, which may be reduced by some costs (transport, marketing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Signature bonuses, production bonu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Resource Rent Tax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Tax based on cash flows, which applies when the mining project reaches a given profitability threshold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Beyond tax instru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Free equity in mining firm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The State remains minority.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=&gt; Introduction of preference dividend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State-owned Mining Compan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The issue of privatization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ain characteristic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447920"/>
          <a:ext cx="8458200" cy="5046480"/>
        </p:xfrm>
        <a:graphic>
          <a:graphicData uri="http://schemas.openxmlformats.org/drawingml/2006/table">
            <a:tbl>
              <a:tblPr/>
              <a:tblGrid>
                <a:gridCol w="1927080"/>
                <a:gridCol w="1285920"/>
                <a:gridCol w="1285920"/>
                <a:gridCol w="1284480"/>
                <a:gridCol w="1285560"/>
                <a:gridCol w="1389240"/>
              </a:tblGrid>
              <a:tr h="717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or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shar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sk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ay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m. Cos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430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 Rent Tax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éré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430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ing royalti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ary 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17760"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essive rat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vé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412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e equity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e 3"/>
          <p:cNvGrpSpPr/>
          <p:nvPr/>
        </p:nvGrpSpPr>
        <p:grpSpPr>
          <a:xfrm>
            <a:off x="250920" y="1413000"/>
            <a:ext cx="7880400" cy="5163840"/>
            <a:chOff x="250920" y="1413000"/>
            <a:chExt cx="7880400" cy="5163840"/>
          </a:xfrm>
        </p:grpSpPr>
        <p:pic>
          <p:nvPicPr>
            <p:cNvPr id="134" name="Graphique 4" descr=""/>
            <p:cNvPicPr/>
            <p:nvPr/>
          </p:nvPicPr>
          <p:blipFill>
            <a:blip r:embed="rId1"/>
            <a:stretch/>
          </p:blipFill>
          <p:spPr>
            <a:xfrm>
              <a:off x="975240" y="1413000"/>
              <a:ext cx="7156080" cy="51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ZoneTexte 1"/>
            <p:cNvSpPr/>
            <p:nvPr/>
          </p:nvSpPr>
          <p:spPr>
            <a:xfrm>
              <a:off x="4559040" y="3783600"/>
              <a:ext cx="1793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investment profit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6" name="ZoneTexte 1"/>
            <p:cNvSpPr/>
            <p:nvPr/>
          </p:nvSpPr>
          <p:spPr>
            <a:xfrm>
              <a:off x="4679640" y="4452120"/>
              <a:ext cx="179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government revenue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7" name="ZoneTexte 1"/>
            <p:cNvSpPr/>
            <p:nvPr/>
          </p:nvSpPr>
          <p:spPr>
            <a:xfrm>
              <a:off x="1825560" y="5017320"/>
              <a:ext cx="13744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investissement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8" name="ZoneTexte 1"/>
            <p:cNvSpPr/>
            <p:nvPr/>
          </p:nvSpPr>
          <p:spPr>
            <a:xfrm flipV="1">
              <a:off x="250920" y="4791600"/>
              <a:ext cx="6709680" cy="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Investment 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return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9" name="ZoneTexte 1"/>
            <p:cNvSpPr/>
            <p:nvPr/>
          </p:nvSpPr>
          <p:spPr>
            <a:xfrm>
              <a:off x="1690560" y="5720760"/>
              <a:ext cx="13143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exploration 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and development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0" name="ZoneTexte 1"/>
            <p:cNvSpPr/>
            <p:nvPr/>
          </p:nvSpPr>
          <p:spPr>
            <a:xfrm>
              <a:off x="5082840" y="5788800"/>
              <a:ext cx="96336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1" name="ZoneTexte 31"/>
            <p:cNvSpPr/>
            <p:nvPr/>
          </p:nvSpPr>
          <p:spPr>
            <a:xfrm flipV="1" rot="16200000">
              <a:off x="7145280" y="5724000"/>
              <a:ext cx="12445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rehabilitation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2" name="ZoneTexte 33"/>
            <p:cNvSpPr/>
            <p:nvPr/>
          </p:nvSpPr>
          <p:spPr>
            <a:xfrm rot="16200000">
              <a:off x="256680" y="2671920"/>
              <a:ext cx="194004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positive cash flow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cxnSp>
          <p:nvCxnSpPr>
            <p:cNvPr id="143" name="Connecteur droit avec flèche 13"/>
            <p:cNvCxnSpPr/>
            <p:nvPr/>
          </p:nvCxnSpPr>
          <p:spPr>
            <a:xfrm>
              <a:off x="1451160" y="5034240"/>
              <a:ext cx="10080" cy="128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4" name="Connecteur droit 14"/>
            <p:cNvSpPr/>
            <p:nvPr/>
          </p:nvSpPr>
          <p:spPr>
            <a:xfrm flipH="1">
              <a:off x="3184560" y="5994000"/>
              <a:ext cx="19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cxnSp>
          <p:nvCxnSpPr>
            <p:cNvPr id="145" name="Connecteur droit avec flèche 15"/>
            <p:cNvCxnSpPr/>
            <p:nvPr/>
          </p:nvCxnSpPr>
          <p:spPr>
            <a:xfrm flipV="1">
              <a:off x="6053040" y="5976000"/>
              <a:ext cx="1539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46" name="Connecteur droit avec flèche 16"/>
            <p:cNvCxnSpPr/>
            <p:nvPr/>
          </p:nvCxnSpPr>
          <p:spPr>
            <a:xfrm flipV="1">
              <a:off x="1450800" y="1813320"/>
              <a:ext cx="1080" cy="31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494"/>
                </a:solidFill>
                <a:latin typeface="Verdana"/>
              </a:rPr>
              <a:t>Sharing the rent: Average Effective Tax Rate (AETR)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ETR = an indicator of the effective tax burden or equivalently the governmental share of mining rent.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= Ratio of the discounted value of cash flows of tax revenues and the discounted value of the mining project.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f5494"/>
                </a:solidFill>
                <a:latin typeface="Verdana"/>
              </a:rPr>
              <a:t>The value of the AETR depends on the discounted rate.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Introduc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Principles of an optimal taxation of the min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Current mining taxation regi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Sharing the mining r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Espace réservé du pied de pag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 Gallagher, Ph.D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BE9E-8A41-4ECC-8C4B-01AD485DC8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89080" y="990720"/>
            <a:ext cx="85532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230040" y="1197000"/>
            <a:ext cx="868212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Introduction: The characteristics of the mining industr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Resource cur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esource rich countries have a lower growth rate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Taxation: Acountability and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Mircoeconomic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unk costs, irreversible investment =&gt; hold-up issue/ time inconsistency –commitment issu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isks: Technology, economics, politic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Macroeconcomic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Worldwide supply and deman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Volatility of commodity pr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uper-cycles (30 years) 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f5494"/>
                </a:solidFill>
                <a:latin typeface="Verdana"/>
              </a:rPr>
              <a:t>USA end of XIXth century, Europ and Japan (1945-1975), China (2000-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Resource-rich countries in Afric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E42B-16F1-442B-8606-9202B44092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26920" y="1895400"/>
            <a:ext cx="734544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f5494"/>
                </a:solidFill>
                <a:latin typeface="Verdana"/>
              </a:rPr>
              <a:t>Volatility of commodity prices</a:t>
            </a:r>
            <a:r>
              <a:rPr b="1" lang="fr-FR" sz="3600" spc="-1" strike="noStrike">
                <a:solidFill>
                  <a:srgbClr val="2d5ec1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8244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upply: an increasing produ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1371600" y="1150920"/>
            <a:ext cx="655308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Demand: The role of Chin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911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haring the mining ren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Mining tax regime= a derogatory tax regime (different from the standard tax regime) =&gt; Mining Cod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Result of trade-off between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Attracting foreign investor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Obtaining a fair share of the miing rent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Several mining tax regimes depending on the production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Exploration (no economic activity, no turnover, but potential capital gains)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Extraction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Exploration (pas d’activité économique, CA)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Artisanal producers.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ome principles of an optimal mining tax regim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Transparency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Simplicity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Stability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Progressivity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grrotagr</cp:lastModifiedBy>
  <cp:lastPrinted>2016-01-22T00:10:01Z</cp:lastPrinted>
  <dcterms:modified xsi:type="dcterms:W3CDTF">2017-04-06T13:52:30Z</dcterms:modified>
  <cp:revision>173</cp:revision>
  <dc:subject/>
  <dc:title>Slide 1</dc:title>
</cp:coreProperties>
</file>